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0.pct" ContentType="image/x-pict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F339-E066-4010-B216-7719670C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group may not describe the same domain in the same way.  GO “part_of” can mean 2 different things.  Add more to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ct regi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E08C-9A8A-4C8A-960D-4D57978CE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12 CTSAs were awarded in 2006 to 12 academic health centers located throughout the nation.  When fully implemented in 2012, the initiative is expected to provide a total of about $500 million annually to 60 academic health centers. An additional 52 academic health centers received planning grants, in 2006, to help them prepare applications to join the consort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ing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BC4-D1AB-4B1B-A7A3-69FD3A95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B29-BFA9-4F4D-BA8B-5D681116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577-2C1D-4742-8E9C-8ED107EF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1EE-03CC-4D54-9208-6C122D1F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753-BE21-4EE5-900F-C78B472D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698-8917-45F8-AF02-413AB3BC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A51-C121-4784-8C19-8A48097C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A75-9E54-41A2-AD23-6A818413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F76-34BF-4928-933C-4B980334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C94-E790-44C5-864F-E79F14D9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04D-FA5F-48D4-A22B-AE1AEB4B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727-BBC2-4128-A514-F1B5AF85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589B-D6A3-4E2F-9E01-A2F6D6184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1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ology for Clinical Investigations (OCI): Representation of clinical research data in the framework of a formal biomedical investigation ontolo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8744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H. Scheuer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T. Southwestern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standard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1320"/>
            <a:ext cx="77724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information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vocabularies/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23200" y="15552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“Ontolog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120" y="1316160"/>
            <a:ext cx="832176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udy of that which exists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of what is: of the kinds and structures of the objects, and their properties and relations in every area of reality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/computer scient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hared, common, backbone taxonomy of relevant entities, and the relationships between them, within an application domain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mputable representation of biological reality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tructured vocabula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formal way of representing knowledge in which concepts are described both by their meaning and their relationship to each other” (Bard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ata model that represents a domain and is used to reason about the objects in that domain and the relations between them” (Wikip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1440000"/>
            <a:ext cx="85341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clear thinking about how to structu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data integration, modeling, query processing, user interface development, data exchange/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force data corre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able to map to database managem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ables a computer to reason over th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ovide the capability to infer relationships that have not been explicitly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30800" y="11736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28400" y="11736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existing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019240"/>
            <a:ext cx="8534160" cy="28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pping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within a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– ontologies should be able to work together and be used by other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ontologies do not deal well with time an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ell-defined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idespread use and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based on varying princi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0" r="329" b="4262"/>
          <a:stretch/>
        </p:blipFill>
        <p:spPr>
          <a:xfrm>
            <a:off x="985680" y="1549440"/>
            <a:ext cx="7172640" cy="5167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13240" y="10476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ontology principles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OBO Foundry -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8120" y="687240"/>
            <a:ext cx="880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O foundry is a set of interoperable ontologies that adhere to a growing set of principles set forth for best practices in ontolog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The OBO Found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120" y="2590920"/>
            <a:ext cx="80773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untary initiative of developers of consensus biomedical ont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be interoperable, logically coherent, biologically accurate and subject to update in light of scientific 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ADEB-9363-4E28-BCD0-F21F8A6BC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3385" t="18448" r="6298" b="13934"/>
          <a:stretch/>
        </p:blipFill>
        <p:spPr>
          <a:xfrm>
            <a:off x="0" y="906480"/>
            <a:ext cx="9144000" cy="51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45200" y="18576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OBO Foun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DC87-21C4-4C38-A38E-040A5D55E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"/>
          <p:cNvSpPr/>
          <p:nvPr/>
        </p:nvSpPr>
        <p:spPr>
          <a:xfrm>
            <a:off x="2419200" y="22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2419200" y="22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317520" y="330120"/>
            <a:ext cx="1905120" cy="152424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920" y="304920"/>
          <a:ext cx="8534160" cy="5321160"/>
        </p:xfrm>
        <a:graphic>
          <a:graphicData uri="http://schemas.openxmlformats.org/drawingml/2006/table">
            <a:tbl>
              <a:tblPr/>
              <a:tblGrid>
                <a:gridCol w="1908000"/>
                <a:gridCol w="1216080"/>
                <a:gridCol w="1143000"/>
                <a:gridCol w="1295280"/>
                <a:gridCol w="1300320"/>
                <a:gridCol w="1671480"/>
              </a:tblGrid>
              <a:tr h="592560">
                <a:tc rowSpan="2"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TO 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GRANULA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4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CONTINU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CCUR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56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IN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24344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RGAN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RG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Org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NC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Taxonomy / placehold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Anatomical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FMA, CA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Org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placehold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Phenotypic Quality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PaT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iological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CELL AND CELLULAR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C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ular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FMA, 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ular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81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MOLEC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ChEBI, SO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RnaO, P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ar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ar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39"/>
          <p:cNvSpPr/>
          <p:nvPr/>
        </p:nvSpPr>
        <p:spPr>
          <a:xfrm>
            <a:off x="0" y="5824440"/>
            <a:ext cx="9144000" cy="10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Initial OBO Foundry Ont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building out from the original 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FE59-0352-442B-BE71-DD325C338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Mature OBO Foundry ontologies (now undergoing refor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6360" y="28191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Ontology (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Entities of Biological Interest (ChE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ational Model of Anatomy (F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 Ontology (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enotypic Quality Ontology (P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 Ontology (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Ontology (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BF0C-52CC-4743-B327-E9064C16C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Ontologies being built to satisfy Foundry principles </a:t>
            </a:r>
            <a:r>
              <a:rPr b="0" i="1" lang="en-US" sz="3600" spc="-1" strike="noStrike">
                <a:solidFill>
                  <a:srgbClr val="c00000"/>
                </a:solidFill>
                <a:latin typeface="Arial"/>
              </a:rPr>
              <a:t>ab ini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Anatomy Reference Ontology (CA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Ontology (EnvO / GE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for Biomedical Investigations (O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for Clinical Investigations (OCI, part of O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Ontology (P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Ontology (Rna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- C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and OBO Fou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for Biomedical Investigations (OB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for Clinical Investigations (O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CE28-8F7A-41BB-B6B6-FA9DB0C4E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Foundry ontologies all work in the same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make this data available for semantic search and algorithmic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reate a consensus-based ontology for annotating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nsure that it can interoperate with Foundry ontologies for neighboring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OBO Foundry provides a suite of basic science Reference Ont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serve as modules for re-use in Application Ontologie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us Disease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logy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clerosis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malian Adult Neurogenesis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B61B-695E-4E0C-9D33-5FB8709C3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440" y="1356840"/>
            <a:ext cx="901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Ontology for BioMedical Investigations</a:t>
            </a:r>
            <a:br>
              <a:rPr sz="3600"/>
            </a:b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OBI</a:t>
            </a:r>
            <a:br>
              <a:rPr sz="3600"/>
            </a:br>
            <a:br>
              <a:rPr sz="400"/>
            </a:b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(previously FuG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880" y="3000240"/>
            <a:ext cx="8337600" cy="0"/>
          </a:xfrm>
          <a:prstGeom prst="line">
            <a:avLst/>
          </a:prstGeom>
          <a:ln w="28440">
            <a:solidFill>
              <a:srgbClr val="157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20680" y="3549600"/>
            <a:ext cx="635652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  <a:ea typeface="Arial"/>
              </a:rPr>
              <a:t>Name of the presenter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On behalf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OBI </a:t>
            </a:r>
            <a:r>
              <a:rPr b="1" lang="en-US" sz="2800" spc="-1" strike="noStrike">
                <a:solidFill>
                  <a:srgbClr val="af1b45"/>
                </a:solidFill>
                <a:latin typeface="Trebuchet MS"/>
                <a:ea typeface="굴림"/>
              </a:rPr>
              <a:t>Coordination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6413400"/>
            <a:ext cx="8877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5792a"/>
                </a:solidFill>
                <a:latin typeface="Trebuchet MS"/>
                <a:ea typeface="Times New Roman"/>
              </a:rPr>
              <a:t>Name of the meet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-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844560"/>
            <a:ext cx="9144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8000"/>
          </a:bodyPr>
          <a:p>
            <a:pPr marL="129240" indent="-129240">
              <a:lnSpc>
                <a:spcPct val="10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International collaboration (since 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mmunities developing ontologies/termi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nambiguous description of how the investigation wa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sistent annotation, powerful queries and data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29240" indent="-129240"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Describe the laboratory work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Set of 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  <a:ea typeface="굴림"/>
              </a:rPr>
              <a:t>universal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Investigation (organization, intent, design et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Material (biological and chemical, manipulation and transfor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Protocols and instru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Data generated and types of analysis performed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Set of biological and technological 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  <a:ea typeface="굴림"/>
              </a:rPr>
              <a:t>domain-specific term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- To meet the annotation requirements of any given commun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29240" indent="-129240"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Part of the Open Biomedical Ontology (</a:t>
            </a:r>
            <a:r>
              <a:rPr b="1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OBO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) Found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Orthogonality and x-referencing with existing bio-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'Interoperable by construction'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with those under the Found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Including Unit, Quality (PATO), Environment and Chemical (ChEBI)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62160" y="3124080"/>
            <a:ext cx="1504800" cy="2095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47184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68120" y="3429000"/>
            <a:ext cx="1874520" cy="1981080"/>
            <a:chOff x="168120" y="3429000"/>
            <a:chExt cx="1874520" cy="1981080"/>
          </a:xfrm>
        </p:grpSpPr>
        <p:grpSp>
          <p:nvGrpSpPr>
            <p:cNvPr id="55" name=""/>
            <p:cNvGrpSpPr/>
            <p:nvPr/>
          </p:nvGrpSpPr>
          <p:grpSpPr>
            <a:xfrm>
              <a:off x="168120" y="3429000"/>
              <a:ext cx="1874520" cy="1981080"/>
              <a:chOff x="168120" y="3429000"/>
              <a:chExt cx="1874520" cy="1981080"/>
            </a:xfrm>
          </p:grpSpPr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8120" y="3429000"/>
                <a:ext cx="1874520" cy="19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259920" y="3486960"/>
                <a:ext cx="1584360" cy="174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560" y="3486960"/>
                <a:ext cx="1582560" cy="174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277560" y="3486960"/>
              <a:ext cx="1582560" cy="174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317600" y="5121360"/>
            <a:ext cx="2666880" cy="1646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7440" y="312480"/>
            <a:ext cx="8709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al and Translational Science Award (CT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133720" y="3146400"/>
            <a:ext cx="1304640" cy="1882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7600" y="144792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ing biomedical discoveries made in the last 10 years demands an evolution of clinical sc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prevention strategies and treatments must be developed, tested, and brought into medical practice more rapid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SA awards will lower barriers between disciplines, and encourage creative, innovative approaches to solve complex medic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linical and translational science awards will catalyze change -- breaking silos, breaking barriers, and breaking conv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1295280" y="5029200"/>
            <a:ext cx="2308320" cy="1539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228600" y="1592280"/>
            <a:ext cx="2971800" cy="194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357120" y="1523880"/>
            <a:ext cx="2414520" cy="1774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_s7172"/>
          <p:cNvSpPr/>
          <p:nvPr/>
        </p:nvSpPr>
        <p:spPr>
          <a:xfrm>
            <a:off x="2198520" y="2909880"/>
            <a:ext cx="1602000" cy="1601640"/>
          </a:xfrm>
          <a:prstGeom prst="ellipse">
            <a:avLst/>
          </a:prstGeom>
          <a:solidFill>
            <a:srgbClr val="ff5050">
              <a:alpha val="73000"/>
            </a:srgbClr>
          </a:solidFill>
          <a:ln w="4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7173"/>
          <p:cNvSpPr/>
          <p:nvPr/>
        </p:nvSpPr>
        <p:spPr>
          <a:xfrm>
            <a:off x="2451240" y="2349360"/>
            <a:ext cx="1095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_s7174"/>
          <p:cNvSpPr/>
          <p:nvPr/>
        </p:nvSpPr>
        <p:spPr>
          <a:xfrm>
            <a:off x="2589120" y="3051000"/>
            <a:ext cx="1602000" cy="1602000"/>
          </a:xfrm>
          <a:prstGeom prst="ellipse">
            <a:avLst/>
          </a:prstGeom>
          <a:solidFill>
            <a:srgbClr val="ff9900"/>
          </a:solidFill>
          <a:ln w="4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_s7175"/>
          <p:cNvSpPr/>
          <p:nvPr/>
        </p:nvSpPr>
        <p:spPr>
          <a:xfrm>
            <a:off x="3886200" y="257508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_s7176"/>
          <p:cNvSpPr/>
          <p:nvPr/>
        </p:nvSpPr>
        <p:spPr>
          <a:xfrm>
            <a:off x="2798640" y="3411360"/>
            <a:ext cx="1602000" cy="1602000"/>
          </a:xfrm>
          <a:prstGeom prst="ellipse">
            <a:avLst/>
          </a:prstGeom>
          <a:solidFill>
            <a:srgbClr val="008000">
              <a:alpha val="84000"/>
            </a:srgbClr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_s7177"/>
          <p:cNvSpPr/>
          <p:nvPr/>
        </p:nvSpPr>
        <p:spPr>
          <a:xfrm>
            <a:off x="4543560" y="3645000"/>
            <a:ext cx="10951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gree-Gra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_s7178"/>
          <p:cNvSpPr/>
          <p:nvPr/>
        </p:nvSpPr>
        <p:spPr>
          <a:xfrm>
            <a:off x="2727360" y="3821040"/>
            <a:ext cx="1601640" cy="1602000"/>
          </a:xfrm>
          <a:prstGeom prst="ellipse">
            <a:avLst/>
          </a:prstGeom>
          <a:solidFill>
            <a:srgbClr val="ffff00">
              <a:alpha val="82000"/>
            </a:srgbClr>
          </a:solidFill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_s7179"/>
          <p:cNvSpPr/>
          <p:nvPr/>
        </p:nvSpPr>
        <p:spPr>
          <a:xfrm>
            <a:off x="4495680" y="49370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_s7180"/>
          <p:cNvSpPr/>
          <p:nvPr/>
        </p:nvSpPr>
        <p:spPr>
          <a:xfrm>
            <a:off x="2408400" y="4089240"/>
            <a:ext cx="1601640" cy="1602000"/>
          </a:xfrm>
          <a:prstGeom prst="ellipse">
            <a:avLst/>
          </a:prstGeom>
          <a:solidFill>
            <a:srgbClr val="ff9900">
              <a:alpha val="85000"/>
            </a:srgbClr>
          </a:solidFill>
          <a:ln w="4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_s7181"/>
          <p:cNvSpPr/>
          <p:nvPr/>
        </p:nvSpPr>
        <p:spPr>
          <a:xfrm>
            <a:off x="3352680" y="58514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_s7182"/>
          <p:cNvSpPr/>
          <p:nvPr/>
        </p:nvSpPr>
        <p:spPr>
          <a:xfrm>
            <a:off x="1992240" y="4089240"/>
            <a:ext cx="1602000" cy="1602000"/>
          </a:xfrm>
          <a:prstGeom prst="ellipse">
            <a:avLst/>
          </a:prstGeom>
          <a:solidFill>
            <a:srgbClr val="3366ff">
              <a:alpha val="91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_s7183"/>
          <p:cNvSpPr/>
          <p:nvPr/>
        </p:nvSpPr>
        <p:spPr>
          <a:xfrm>
            <a:off x="1219320" y="5792760"/>
            <a:ext cx="12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_s7184"/>
          <p:cNvSpPr/>
          <p:nvPr/>
        </p:nvSpPr>
        <p:spPr>
          <a:xfrm>
            <a:off x="1673280" y="3822840"/>
            <a:ext cx="1601640" cy="1601640"/>
          </a:xfrm>
          <a:prstGeom prst="ellipse">
            <a:avLst/>
          </a:prstGeom>
          <a:solidFill>
            <a:srgbClr val="339966"/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_s7185"/>
          <p:cNvSpPr/>
          <p:nvPr/>
        </p:nvSpPr>
        <p:spPr>
          <a:xfrm>
            <a:off x="457200" y="49370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_s7186"/>
          <p:cNvSpPr/>
          <p:nvPr/>
        </p:nvSpPr>
        <p:spPr>
          <a:xfrm>
            <a:off x="1600200" y="3413160"/>
            <a:ext cx="1601640" cy="1601640"/>
          </a:xfrm>
          <a:prstGeom prst="ellipse">
            <a:avLst/>
          </a:prstGeom>
          <a:solidFill>
            <a:srgbClr val="ffff00">
              <a:alpha val="71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_s7187"/>
          <p:cNvSpPr/>
          <p:nvPr/>
        </p:nvSpPr>
        <p:spPr>
          <a:xfrm>
            <a:off x="228600" y="371808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_s7188"/>
          <p:cNvSpPr/>
          <p:nvPr/>
        </p:nvSpPr>
        <p:spPr>
          <a:xfrm>
            <a:off x="1808280" y="3052800"/>
            <a:ext cx="1601640" cy="1601640"/>
          </a:xfrm>
          <a:prstGeom prst="ellipse">
            <a:avLst/>
          </a:prstGeom>
          <a:solidFill>
            <a:srgbClr val="009999">
              <a:alpha val="8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_s7189"/>
          <p:cNvSpPr/>
          <p:nvPr/>
        </p:nvSpPr>
        <p:spPr>
          <a:xfrm>
            <a:off x="1114560" y="2498760"/>
            <a:ext cx="10951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65280" y="38703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20257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H &amp; other government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58514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car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41464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400" y="353880"/>
            <a:ext cx="89154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 academic health center will create a home for clinical and translational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6172200" y="4098600"/>
            <a:ext cx="1125360" cy="43164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27600">
            <a:off x="5943600" y="2650680"/>
            <a:ext cx="1125360" cy="43200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2628200">
            <a:off x="5943240" y="5546520"/>
            <a:ext cx="1125360" cy="43164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 National CTSA Consor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1760" y="2622600"/>
            <a:ext cx="3640320" cy="4179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81200" y="581040"/>
            <a:ext cx="4256280" cy="241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89560" y="2622600"/>
            <a:ext cx="3640320" cy="41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5280" y="190656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managem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develop a comprehensive controlled information system infrastructure to capture and manage clinical and translational research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integrat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integrate clinical and translational research data with data and knowledge from external public database resour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analys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support clinical and translational research data analysis by providing state-of-the-art software analytical too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provide training and support for CRIS 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636120"/>
            <a:ext cx="85708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linical Research Information System - utC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32000" y="2971800"/>
            <a:ext cx="6098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5120" y="3809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16240" y="4571640"/>
            <a:ext cx="51768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114720" y="4952880"/>
            <a:ext cx="923760" cy="7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25600" y="3886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8120" y="57150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Level Design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5143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rnal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218960" cy="12952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295280"/>
              <a:gd name="textAreaBottom" fmla="*/ 1235880 h 1295280"/>
            </a:gdLst>
            <a:ahLst/>
            <a:rect l="textAreaLeft" t="textAreaTop" r="textAreaRight" b="textAreaBottom"/>
            <a:pathLst>
              <a:path w="21600" h="22952">
                <a:moveTo>
                  <a:pt x="3600" y="0"/>
                </a:moveTo>
                <a:arcTo wR="3600" hR="3600" stAng="16200000" swAng="-5400000"/>
                <a:lnTo>
                  <a:pt x="0" y="19352"/>
                </a:lnTo>
                <a:arcTo wR="3600" hR="3600" stAng="10800000" swAng="-5400000"/>
                <a:lnTo>
                  <a:pt x="18000" y="22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rnal Bioinforma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ez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Unipr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bSN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GEO/Arr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429000"/>
            <a:ext cx="1371600" cy="1219320"/>
          </a:xfrm>
          <a:prstGeom prst="rect">
            <a:avLst/>
          </a:prstGeom>
          <a:gradFill rotWithShape="0">
            <a:gsLst>
              <a:gs pos="0">
                <a:srgbClr val="00cc00">
                  <a:alpha val="10196"/>
                </a:srgbClr>
              </a:gs>
              <a:gs pos="50000">
                <a:srgbClr val="005e00">
                  <a:alpha val="20000"/>
                </a:srgbClr>
              </a:gs>
              <a:gs pos="100000">
                <a:srgbClr val="00cc00">
                  <a:alpha val="1019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3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27520" y="3505320"/>
            <a:ext cx="1243080" cy="306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 M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095880" y="3417480"/>
            <a:ext cx="306360" cy="124308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3434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 F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0200" y="396252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L7 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58128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27840" y="2895480"/>
            <a:ext cx="881280" cy="544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32800" y="3495600"/>
            <a:ext cx="127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Web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81960" y="10746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TSW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81960" y="4724280"/>
            <a:ext cx="1371600" cy="1295640"/>
          </a:xfrm>
          <a:prstGeom prst="ellipse">
            <a:avLst/>
          </a:prstGeom>
          <a:solidFill>
            <a:srgbClr val="bbe0e3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47840" y="3505320"/>
            <a:ext cx="9144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ical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1880" y="5334120"/>
            <a:ext cx="106668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4419720"/>
            <a:ext cx="1143000" cy="838080"/>
          </a:xfrm>
          <a:prstGeom prst="can">
            <a:avLst>
              <a:gd name="adj" fmla="val 26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erimen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84520" y="2438280"/>
            <a:ext cx="0" cy="641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339440" y="411840"/>
            <a:ext cx="290520" cy="14475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posal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amp; 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409280" y="1332720"/>
            <a:ext cx="15264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ial Recrui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4340160" y="79164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340160" y="155376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4340160" y="109656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F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71920" y="914400"/>
            <a:ext cx="1828800" cy="1523880"/>
          </a:xfrm>
          <a:prstGeom prst="roundRect">
            <a:avLst>
              <a:gd name="adj" fmla="val 16667"/>
            </a:avLst>
          </a:prstGeom>
          <a:solidFill>
            <a:srgbClr val="80808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3048120"/>
            <a:ext cx="1447560" cy="1981080"/>
          </a:xfrm>
          <a:prstGeom prst="can">
            <a:avLst>
              <a:gd name="adj" fmla="val 20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nical Research Data 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tCR-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33520"/>
            <a:ext cx="1600200" cy="1600200"/>
          </a:xfrm>
          <a:prstGeom prst="ellipse">
            <a:avLst/>
          </a:prstGeom>
          <a:solidFill>
            <a:srgbClr val="bbe0e3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47840" y="2666880"/>
            <a:ext cx="914400" cy="685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T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7760" y="4114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88000" y="1433520"/>
            <a:ext cx="152388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68040" y="4267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373392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38862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6107040" y="3798360"/>
            <a:ext cx="306360" cy="124308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o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24960" y="15177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9240" y="23623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4680" y="3352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22096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1143000"/>
            <a:ext cx="1371600" cy="31240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3124080"/>
              <a:gd name="textAreaBottom" fmla="*/ 3057120 h 3124080"/>
            </a:gdLst>
            <a:ahLst/>
            <a:rect l="textAreaLeft" t="textAreaTop" r="textAreaRight" b="textAreaBottom"/>
            <a:pathLst>
              <a:path w="21600" h="49191">
                <a:moveTo>
                  <a:pt x="3600" y="0"/>
                </a:moveTo>
                <a:arcTo wR="3600" hR="3600" stAng="16200000" swAng="-5400000"/>
                <a:lnTo>
                  <a:pt x="0" y="45591"/>
                </a:lnTo>
                <a:arcTo wR="3600" hR="3600" stAng="10800000" swAng="-5400000"/>
                <a:lnTo>
                  <a:pt x="18000" y="49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7920" y="1295280"/>
            <a:ext cx="1120680" cy="2813040"/>
            <a:chOff x="277920" y="1295280"/>
            <a:chExt cx="1120680" cy="2813040"/>
          </a:xfrm>
        </p:grpSpPr>
        <p:sp>
          <p:nvSpPr>
            <p:cNvPr id="144" name=""/>
            <p:cNvSpPr/>
            <p:nvPr/>
          </p:nvSpPr>
          <p:spPr>
            <a:xfrm>
              <a:off x="277920" y="251460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i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62640" y="257940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24920" y="270828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9480" y="264312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7920" y="1904760"/>
              <a:ext cx="1120680" cy="45108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su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Ban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62640" y="196992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4920" y="209844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9480" y="203364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129528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v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62640" y="136044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24920" y="148896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49480" y="142380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7920" y="3124080"/>
              <a:ext cx="1120680" cy="37476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2640" y="3178080"/>
              <a:ext cx="186480" cy="16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24920" y="3284280"/>
              <a:ext cx="186480" cy="160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9480" y="3230280"/>
              <a:ext cx="186480" cy="162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920" y="365760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62640" y="372240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24920" y="385128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9480" y="378612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3143160" y="2367000"/>
            <a:ext cx="471600" cy="325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t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apeutic drug as a design variable vs. medical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A as a therapeutic agent vs. analysis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mbiguous data exchange between research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ive data exchange between softwar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of study-specific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 changes throughout and betwee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 queries (e.g. patients with autoimmune dise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ies with common features (e.g. all studies where flu vaccine was evaluated as a conditional var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660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to build upon and extend, or map to, existing and emerging data standards (e.g. HL7, CDISC, ICD, UMLS, Epoch, RCT Schema, NCI Thesaurus, SNOMED-C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the difference between Health IT and Researc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wide variety of different clinical and translational study types - reduce complexity by modeling comm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needs of multiple stakeholders - different uses of sa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should be easy to implement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need to be easily and logically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clinical research data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29:34Z</dcterms:modified>
  <cp:revision>40</cp:revision>
  <dc:subject/>
  <dc:title>CTO - Clinical Trials/Research in the Ontology of Biomedical Investigation</dc:title>
</cp:coreProperties>
</file>